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E63E4-86A1-49CD-8C21-03C8B74C49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98250-F3B5-40BA-AF36-F37200EA43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15F11-F468-4C6E-8EC1-B2C00A3033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93C04-FA81-4B11-B06D-FDB4E92B0B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B6FA6-9823-465E-AEEF-216345318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821675-550C-4597-8D8B-61310D33DB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94A35-641B-4E52-9931-8F90A2538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A9248F-D8AC-4D7B-ACD6-E3AEDE2CB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9F001-D5A9-49D1-AB67-07AB44E40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5D89A8-30A8-4D8C-B88B-CA220C6AE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97D77-8EB1-4088-9F19-BE62B6FCE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4145B-1244-4578-89AF-CD5B32994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801489-38AB-4059-BC44-728B7F2AD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0AE389-FA0B-480A-93C8-9D55D0B57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4F59-9279-400F-AB2A-CF0422C3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87A44A-EBC1-4627-9741-3282C0E3E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ADE65-B328-4D8E-8F26-B4DF189F33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816B6-24DA-42FC-86FD-78247EF1F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4394C-6B47-477A-A76C-C2085AD25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9DB77-AA6E-4E45-9814-471DE7DDEC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35751-0A30-4F14-B1E0-1C51876456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18C3-1DE3-4436-92DA-5FFF4B7060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985CE-1529-4C81-8448-524D5193C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12F7-4579-414F-AE43-551B3C64D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C7414-5275-4A5B-81EB-E1AB8D17D78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A43CF-9EDE-42B9-91BD-025D282B7D3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6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Operat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s of AS_Path and Next_Ho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_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ables routing poli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 a particular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Qual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umber of AS cross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_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 few routers implement BG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ponsible for informing outside routers of routes to other networks in 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ification Messa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header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hentication and synt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option not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acceptable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messag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tax and validity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ld time exp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is cl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77560" indent="-2775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1560" indent="-2314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close a connection when there is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Routing Information Exchan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AS, router builds topology picture using I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issues Update message to other routers outside AS using BG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se routers exchange info with other routers in othe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then decide best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SPF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GP of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ced Routing Information Protocol (R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State 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router keeps list of state of local links to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s update state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ttle traffic as messages are small and not sent oft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232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computed on least cost based on user cost 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n Shortest Path First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y stored as directed grap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tices 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ub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ph 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two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nect router to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mple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801"/>
          <a:stretch/>
        </p:blipFill>
        <p:spPr>
          <a:xfrm>
            <a:off x="3414600" y="0"/>
            <a:ext cx="5729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ph of A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3445" t="0" r="2645" b="8801"/>
          <a:stretch/>
        </p:blipFill>
        <p:spPr>
          <a:xfrm>
            <a:off x="3611520" y="0"/>
            <a:ext cx="553248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jkstra’s algorithm (Appendix 10A) used to find least cost path to all other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op used in rout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grates Services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traffic demands require variety of quality of servi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hone, multimedia,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functionality required in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means of requesting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63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pe with wide changes in delay and/or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TP sensitive to throughpu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-Mail  in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Management sensitive to delay in times of heavy conges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b sensitive to dela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las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easily adapt to vari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out topology and delays in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make routing decisions based on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Inelastic Traff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vari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preferential treatment for certain types o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elastic traffic to be supported a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Approac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gestion controll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dis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each packet with a 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miss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ard poli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25828"/>
          <a:stretch/>
        </p:blipFill>
        <p:spPr>
          <a:xfrm>
            <a:off x="457200" y="1371600"/>
            <a:ext cx="8077320" cy="41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Traffic Spec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eplenishment rat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ally sustainable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cket siz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unt that data rate can exceed R for shor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time perio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mount of data sent can not exceed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RT + 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Bucke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0730"/>
          <a:stretch/>
        </p:blipFill>
        <p:spPr>
          <a:xfrm>
            <a:off x="1523880" y="1339920"/>
            <a:ext cx="5943600" cy="5473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A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ant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ur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queuing l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play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led 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es behavior to best efforts on unload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fic upper bound on queuing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high delivery su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Eff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euing Discip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itionally FI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special treatment for high priority flow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rge packet can hold up smaller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edy connection can crowd out less greedy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ir queu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maintained at each output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placed in queue for its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nd robin servi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kip empty que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have weighted fair queu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FO and Fair Que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32859"/>
          <a:stretch/>
        </p:blipFill>
        <p:spPr>
          <a:xfrm>
            <a:off x="457200" y="2125800"/>
            <a:ext cx="815328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ource Reservation: RSV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pplications can reserve resources in routers to meet Q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outer can not meet request, application infor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 is more dem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redu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members of group may not require delivery from particular source over give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election of one from a number of “channels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group members may only be able to handle a portion of th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ft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state info in router that expires unless refres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s must periodically renew requests durin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ource ReSerVation Protocol (RSV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20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nomous Systems (AS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of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t of routers and networks managed by signle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nnec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at least one route between any pair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Go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for receivers to make reserv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multicast group membersh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resource requirements such that aggregate resources reflect require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able receivers to select one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al gracefully with changes in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protocol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rout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 and 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itiated 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soft state in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different reservation sty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arent operation through non-RSVP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IPv4 and IP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low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low identified by its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descript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ervation request issued by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de up of flowspec and filtersp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spec gives required Qo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terspec defines set of packets for which reservation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eatment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6681"/>
          <a:stretch/>
        </p:blipFill>
        <p:spPr>
          <a:xfrm>
            <a:off x="457200" y="1795320"/>
            <a:ext cx="8153280" cy="292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32227"/>
          <a:stretch/>
        </p:blipFill>
        <p:spPr>
          <a:xfrm>
            <a:off x="380880" y="1714680"/>
            <a:ext cx="8305920" cy="29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VP 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iginate at multicast recei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e upstream through distribution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reate soft states within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ch sending host enabling it to set up traffic control for first h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upstream routing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 From Host Perspecti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joins multicast group (IG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tential sender issues Pa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message identifying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reverse path info and may start sending Resv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v messages propagate through internet and is delivered to sen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starts transmitt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tarts receiving dat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ted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 simple, easy to implement, low overhead tool to support range of network services differentiated on basis of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Packets labeled for differing QoS using existing IPv4 Type of Service or IPv6 Traffic cal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level agreement established between provider and customer prior to use of 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t in aggreg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scaling to larger networks and lo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lemented by queuing and forwarding based on DS oct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state info on packet flows stored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d within DS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guous portion of internet over which consistent set of DS policies are adminis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under control of on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fined by service level agreements (SL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ed service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cted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 prob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t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raints on ingress and egress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ro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ken bucket parame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position of traffic in excess of profi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ior Router Protocol (IR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sses routing information between routers within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ore than one AS i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lgorithms and tables may differ between different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need some info about networks outside their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exterior router protocol (ER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RP needs detailed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P supports summary information on reach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A - low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B - low lo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C - 90% of traffic &lt; 50ms lat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D - 95% in profile traffic deliv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E - allotted twice bandwidth of level F traff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with drop precedence X higher probability of delivery than that of 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Code Po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ftmost 6 bit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 pools of code poi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x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ment as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u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xxx0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rimental or local but may be allocated for standards in fut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Octet - Precedence Fied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ing discip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Domai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3367"/>
          <a:stretch/>
        </p:blipFill>
        <p:spPr>
          <a:xfrm>
            <a:off x="533520" y="1592280"/>
            <a:ext cx="80010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Configuration and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in domain, interpretation of DS code points is unifor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in domain are boundary nodes or interior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onditioning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rk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a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ropp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S Traffic Condition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35138"/>
          <a:stretch/>
        </p:blipFill>
        <p:spPr>
          <a:xfrm>
            <a:off x="380880" y="2362320"/>
            <a:ext cx="8077320" cy="303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 identified 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Internetworking with TCP/IP volume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pplication of IRP and ER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8101"/>
          <a:stretch/>
        </p:blipFill>
        <p:spPr>
          <a:xfrm>
            <a:off x="1066680" y="1447920"/>
            <a:ext cx="658188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order Gateway Protocol (BG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use with TCP/IP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ferred EGP of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s sent over TCP conn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acquis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ighbor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reach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Mess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6622"/>
          <a:stretch/>
        </p:blipFill>
        <p:spPr>
          <a:xfrm>
            <a:off x="4400640" y="0"/>
            <a:ext cx="4743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GP Proced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en TCP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Open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roposed hold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lects minimum of its hold time and that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time between Keep alive and/or update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A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tell other routers that this router is still 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 about single routes through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of routes being withdra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path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rigin (IGP or EG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_Path (list of AS travers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xt_hop (IP address of boarder rout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_Exit_Disc (Info about routers internal to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cal_pref (Inform other routers within A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omic_Aggregate, Aggregator (Uses address tree structure to reduce amount of info needed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1T09:45:56Z</dcterms:created>
  <dc:creator>Adrian &amp; Wendy</dc:creator>
  <dc:description/>
  <dc:language>en-US</dc:language>
  <cp:lastModifiedBy>Adrian &amp; Wendy</cp:lastModifiedBy>
  <dcterms:modified xsi:type="dcterms:W3CDTF">1999-11-02T08:52:14Z</dcterms:modified>
  <cp:revision>49</cp:revision>
  <dc:subject/>
  <dc:title>William Stallings Data and Computer Communications</dc:title>
</cp:coreProperties>
</file>